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D852-2699-41C4-BBA4-511D12FF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7BCA-28F2-47B9-A531-4B527D05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F2A6-DC03-47EE-B614-7D885E356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F15E-F094-48E7-9424-AD08682FD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19E7-9357-4FBC-B9FE-C279E854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AD6B-25B7-4547-A382-90018B9B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C624-D05C-44FB-9380-7B0282D0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6F4A-C429-49FD-8E6C-85932DBF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9BBA-F196-4375-B332-2C822B53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2078-A32E-4149-BC8F-3E50710F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986B-8763-4B21-8DB0-0B8FBFEB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AC98-8846-4853-BD42-573C67FF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6266-15FC-4D5E-83A2-49553A8F9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e The System of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676520"/>
            <a:ext cx="7696080" cy="37724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502920" bIns="50292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= 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+ 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bstitute the value o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nto one of the original equations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76520"/>
            <a:ext cx="7696080" cy="37724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502920" bIns="50292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= -2/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lang="en-US" sz="7200" spc="-1" strike="noStrike">
                <a:solidFill>
                  <a:srgbClr val="ff0066"/>
                </a:solidFill>
                <a:latin typeface="Times New Roman"/>
              </a:rPr>
              <a:t>(-2/7)</a:t>
            </a: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+ 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5005440"/>
            <a:ext cx="822960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lve the New Equation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406520"/>
            <a:ext cx="7696080" cy="4298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502920" bIns="502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lang="en-US" sz="7200" spc="-1" strike="noStrike">
                <a:solidFill>
                  <a:srgbClr val="ff0066"/>
                </a:solidFill>
                <a:latin typeface="Times New Roman"/>
              </a:rPr>
              <a:t>(-2/7)</a:t>
            </a: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+ 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= - 4/7 + 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= 17/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5029200"/>
            <a:ext cx="822960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olution of the System is an Ordered Pai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741320"/>
            <a:ext cx="7696080" cy="4298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502920" bIns="502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= -2/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= 17/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Times New Roman"/>
              </a:rPr>
              <a:t>(-2/7, 17/7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5005440"/>
            <a:ext cx="822960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e One Equation in Terms of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1676520"/>
            <a:ext cx="7696080" cy="37724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502920" bIns="50292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= 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0066"/>
                </a:solidFill>
                <a:latin typeface="Times New Roman"/>
              </a:rPr>
              <a:t>y </a:t>
            </a:r>
            <a:r>
              <a:rPr b="0" lang="en-US" sz="7200" spc="-1" strike="noStrike">
                <a:solidFill>
                  <a:srgbClr val="ff0066"/>
                </a:solidFill>
                <a:latin typeface="Times New Roman"/>
              </a:rPr>
              <a:t>= 2</a:t>
            </a:r>
            <a:r>
              <a:rPr b="0" i="1" lang="en-US" sz="7200" spc="-1" strike="noStrike">
                <a:solidFill>
                  <a:srgbClr val="ff0066"/>
                </a:solidFill>
                <a:latin typeface="Times New Roman"/>
              </a:rPr>
              <a:t>x </a:t>
            </a:r>
            <a:r>
              <a:rPr b="0" lang="en-US" sz="7200" spc="-1" strike="noStrike">
                <a:solidFill>
                  <a:srgbClr val="ff0066"/>
                </a:solidFill>
                <a:latin typeface="Times New Roman"/>
              </a:rPr>
              <a:t>+ 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bstitute the solved equation into the other equatio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676520"/>
            <a:ext cx="7696080" cy="37724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502920" bIns="50292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lang="en-US" sz="7200" spc="-1" strike="noStrike">
                <a:solidFill>
                  <a:srgbClr val="ff0066"/>
                </a:solidFill>
                <a:latin typeface="Times New Roman"/>
              </a:rPr>
              <a:t>(2</a:t>
            </a:r>
            <a:r>
              <a:rPr b="0" i="1" lang="en-US" sz="72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0" lang="en-US" sz="7200" spc="-1" strike="noStrike">
                <a:solidFill>
                  <a:srgbClr val="ff0066"/>
                </a:solidFill>
                <a:latin typeface="Times New Roman"/>
              </a:rPr>
              <a:t>+3)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= 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0066"/>
                </a:solidFill>
                <a:latin typeface="Times New Roman"/>
              </a:rPr>
              <a:t>y </a:t>
            </a:r>
            <a:r>
              <a:rPr b="0" lang="en-US" sz="7200" spc="-1" strike="noStrike">
                <a:solidFill>
                  <a:srgbClr val="ff0066"/>
                </a:solidFill>
                <a:latin typeface="Times New Roman"/>
              </a:rPr>
              <a:t>= 2</a:t>
            </a:r>
            <a:r>
              <a:rPr b="0" i="1" lang="en-US" sz="7200" spc="-1" strike="noStrike">
                <a:solidFill>
                  <a:srgbClr val="ff0066"/>
                </a:solidFill>
                <a:latin typeface="Times New Roman"/>
              </a:rPr>
              <a:t>x </a:t>
            </a:r>
            <a:r>
              <a:rPr b="0" lang="en-US" sz="7200" spc="-1" strike="noStrike">
                <a:solidFill>
                  <a:srgbClr val="ff0066"/>
                </a:solidFill>
                <a:latin typeface="Times New Roman"/>
              </a:rPr>
              <a:t>+ 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bstitute the solved equation into the other equatio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7696080" cy="37724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502920" bIns="50292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lang="en-US" sz="7200" spc="-1" strike="noStrike">
                <a:solidFill>
                  <a:srgbClr val="ff0066"/>
                </a:solidFill>
                <a:latin typeface="Times New Roman"/>
              </a:rPr>
              <a:t>(2</a:t>
            </a:r>
            <a:r>
              <a:rPr b="0" i="1" lang="en-US" sz="72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0" lang="en-US" sz="7200" spc="-1" strike="noStrike">
                <a:solidFill>
                  <a:srgbClr val="ff0066"/>
                </a:solidFill>
                <a:latin typeface="Times New Roman"/>
              </a:rPr>
              <a:t>+3)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= 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lve the New Equation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676520"/>
            <a:ext cx="7696080" cy="37724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502920" bIns="50292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+ 2(2</a:t>
            </a: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+3) = 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0" i="1" lang="en-US" sz="72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0" lang="en-US" sz="7200" spc="-1" strike="noStrike">
                <a:solidFill>
                  <a:srgbClr val="ff0066"/>
                </a:solidFill>
                <a:latin typeface="Times New Roman"/>
              </a:rPr>
              <a:t> + 4</a:t>
            </a:r>
            <a:r>
              <a:rPr b="0" i="1" lang="en-US" sz="72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0" lang="en-US" sz="7200" spc="-1" strike="noStrike">
                <a:solidFill>
                  <a:srgbClr val="ff0066"/>
                </a:solidFill>
                <a:latin typeface="Times New Roman"/>
              </a:rPr>
              <a:t> + 6 = 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5562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Distribute the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lve the New Equation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676520"/>
            <a:ext cx="7696080" cy="37724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502920" bIns="50292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+ 4</a:t>
            </a: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+ 6 = 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Times New Roman"/>
              </a:rPr>
              <a:t>7</a:t>
            </a:r>
            <a:r>
              <a:rPr b="0" i="1" lang="en-US" sz="72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0" lang="en-US" sz="7200" spc="-1" strike="noStrike">
                <a:solidFill>
                  <a:srgbClr val="ff0066"/>
                </a:solidFill>
                <a:latin typeface="Times New Roman"/>
              </a:rPr>
              <a:t> + 6 = 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5562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ombine Like-Ter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lve the New Equation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1676520"/>
            <a:ext cx="7696080" cy="37724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502920" bIns="50292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+ 6 = 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Times New Roman"/>
              </a:rPr>
              <a:t>7</a:t>
            </a:r>
            <a:r>
              <a:rPr b="0" i="1" lang="en-US" sz="72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0" lang="en-US" sz="7200" spc="-1" strike="noStrike">
                <a:solidFill>
                  <a:srgbClr val="ff0066"/>
                </a:solidFill>
                <a:latin typeface="Times New Roman"/>
              </a:rPr>
              <a:t> = - 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005440"/>
            <a:ext cx="822960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ubtract 6 from both sid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lve the New Equation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676520"/>
            <a:ext cx="7696080" cy="37724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502920" bIns="50292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= - 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0066"/>
                </a:solidFill>
                <a:latin typeface="Times New Roman"/>
              </a:rPr>
              <a:t>x </a:t>
            </a:r>
            <a:r>
              <a:rPr b="0" lang="en-US" sz="7200" spc="-1" strike="noStrike">
                <a:solidFill>
                  <a:srgbClr val="ff0066"/>
                </a:solidFill>
                <a:latin typeface="Times New Roman"/>
              </a:rPr>
              <a:t>= -2/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5005440"/>
            <a:ext cx="822960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ivide both sides by 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bstitute the value o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nto one of the original equations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676520"/>
            <a:ext cx="7696080" cy="37724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502920" bIns="50292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7200" spc="-1" strike="noStrike">
                <a:solidFill>
                  <a:srgbClr val="ff0066"/>
                </a:solidFill>
                <a:latin typeface="Times New Roman"/>
              </a:rPr>
              <a:t> -2/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i="1" lang="en-US" sz="72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+ 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5005440"/>
            <a:ext cx="822960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895120" y="3124080"/>
            <a:ext cx="76212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6T20:25:30Z</dcterms:created>
  <dc:creator>claguna</dc:creator>
  <dc:description/>
  <dc:language>en-US</dc:language>
  <cp:lastModifiedBy>claguna</cp:lastModifiedBy>
  <dcterms:modified xsi:type="dcterms:W3CDTF">2008-02-16T21:37:20Z</dcterms:modified>
  <cp:revision>3</cp:revision>
  <dc:subject/>
  <dc:title>Solve The System of Equations</dc:title>
</cp:coreProperties>
</file>